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2AA-A491-4A3E-964D-8052CF39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E8F-3924-4CEB-966A-2EAA99E0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C32-925B-4FBA-83B9-056086A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A97-BBCD-4B3C-A107-2C770964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6D4-D854-41A5-AB9B-B4FA502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619-82A5-4EF9-AA95-B94B0CE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E0F-6B24-46CC-8565-A94462AD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422-622E-43D7-950C-9E2268B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D29-50DC-48A1-AC26-7910BBC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5CD-D505-4022-AC44-52A0A658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C4C-8523-4256-BF6B-CA9C771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888-9FA9-45C9-A466-7741EF5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E402-3764-4216-90B8-C2E9BEC3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upload.wikimedia.org/wikipedia/commons/2/2e/Tigerramki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Rhino-216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en.wikipedia.org/wiki/File:Nijlpaard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homsons-gazelle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File:Suricata.suricatta.6861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4667400"/>
            <a:ext cx="3086280" cy="44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4724280"/>
            <a:ext cx="294984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56000" y="0"/>
            <a:ext cx="3402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14640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1280" y="76320"/>
            <a:ext cx="306864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38520" y="4724280"/>
            <a:ext cx="2955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644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Tigerramk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648320"/>
            <a:ext cx="307512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lack Rhinoceros, Diceros bicorni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91080" y="133200"/>
            <a:ext cx="2786040" cy="428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mmon hippopotamus, Hippopotamus amphibiu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89280" y="4648320"/>
            <a:ext cx="3168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Thomson's Gaze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95520" cy="419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Komodo dragon Varanus komodoensis Ragunan Zoo 2.JPG"/>
          <p:cNvPicPr/>
          <p:nvPr/>
        </p:nvPicPr>
        <p:blipFill>
          <a:blip r:embed="rId5"/>
          <a:stretch/>
        </p:blipFill>
        <p:spPr>
          <a:xfrm>
            <a:off x="354348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Lightmatter flamingo.jpg"/>
          <p:cNvPicPr/>
          <p:nvPr/>
        </p:nvPicPr>
        <p:blipFill>
          <a:blip r:embed="rId6"/>
          <a:stretch/>
        </p:blipFill>
        <p:spPr>
          <a:xfrm>
            <a:off x="3657600" y="45720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8T22:47:18Z</dcterms:modified>
  <cp:revision>10</cp:revision>
  <dc:subject/>
  <dc:title>Slide 1</dc:title>
</cp:coreProperties>
</file>